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DD5E-DB7D-4395-AD15-C08D4CE5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6D46-94F1-4504-9057-302AB53D7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D81E-E1B2-446F-B89C-DDB92BEA6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F79-FC82-4717-ACC1-5332A0B6B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8C80-1296-4492-BF45-7D6ED8E98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2DB-0E4B-4D3B-BE02-FDA15B96B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065-0811-4F1B-B5F7-D15AE70FA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9AF-0B35-4766-903A-DEBE9A216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D73-5B2D-421A-BD38-1BFEDAA77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727-2345-4D92-858F-8E3C31F52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6C9-7D89-4887-80BC-52C7D14E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5D6-1843-47B0-81C1-C6EFB7AD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58B-357E-4057-81F1-3B8009BA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462-1E4B-4DFB-BB58-8FEF44A8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6DC-C62A-4ECD-A3A6-A5FBE66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ADD-B560-4CF6-B7DA-71A31BA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E21-06D2-4ADA-8F25-357D55B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67E-70F4-4DBB-80F3-B86C56D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8F8-0CE5-4260-8A88-8C54F30E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29F-C991-4664-A721-0DDD8C3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013-20B4-4685-B274-1595A5E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BB5-1703-4876-AE9A-CCCEBD5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751-B4FE-4A86-8A5F-E117EB33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63040" y="990720"/>
            <a:ext cx="6138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Arial"/>
                <a:ea typeface="Lucida Sans Unicode"/>
              </a:rPr>
              <a:t>Trading My Sorrow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01840" y="647280"/>
            <a:ext cx="8411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06040" y="251640"/>
            <a:ext cx="7584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pressed but not cru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ecuted not abando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uck down but not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blessed beyond the c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his promise will en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is joy's gonna be my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ugh the sorrow may last for the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joy comes with the mo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01840" y="649080"/>
            <a:ext cx="8411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06040" y="251640"/>
            <a:ext cx="7584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pressed but not cru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ecuted not abando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uck down but not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blessed beyond the c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his promise will en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is joy's gonna be my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ugh the sorrow may last for the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joy comes with the mo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06520" y="654480"/>
            <a:ext cx="8073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orr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h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it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sick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trading my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'm laying them down for the joy of the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1840" y="649080"/>
            <a:ext cx="8411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say yes Lord, yes Lord, yes, yes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, L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s Lord, yes Lord, yes, yes Lord, Am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16:58Z</dcterms:created>
  <dc:creator>Peter</dc:creator>
  <dc:description/>
  <dc:language>en-US</dc:language>
  <cp:lastModifiedBy>Peter</cp:lastModifiedBy>
  <dcterms:modified xsi:type="dcterms:W3CDTF">2010-02-11T02:50:55Z</dcterms:modified>
  <cp:revision>4</cp:revision>
  <dc:subject/>
  <dc:title>Slide 1</dc:title>
</cp:coreProperties>
</file>